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  <p:sldId id="338" r:id="rId91"/>
    <p:sldId id="339" r:id="rId92"/>
    <p:sldId id="340" r:id="rId93"/>
    <p:sldId id="341" r:id="rId94"/>
    <p:sldId id="342" r:id="rId95"/>
    <p:sldId id="343" r:id="rId96"/>
    <p:sldId id="344" r:id="rId97"/>
    <p:sldId id="345" r:id="rId98"/>
    <p:sldId id="346" r:id="rId99"/>
    <p:sldId id="347" r:id="rId100"/>
    <p:sldId id="348" r:id="rId10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slide" Target="slides/slide83.xml"/><Relationship Id="rId92" Type="http://schemas.openxmlformats.org/officeDocument/2006/relationships/slide" Target="slides/slide84.xml"/><Relationship Id="rId93" Type="http://schemas.openxmlformats.org/officeDocument/2006/relationships/slide" Target="slides/slide85.xml"/><Relationship Id="rId94" Type="http://schemas.openxmlformats.org/officeDocument/2006/relationships/slide" Target="slides/slide86.xml"/><Relationship Id="rId95" Type="http://schemas.openxmlformats.org/officeDocument/2006/relationships/slide" Target="slides/slide87.xml"/><Relationship Id="rId96" Type="http://schemas.openxmlformats.org/officeDocument/2006/relationships/slide" Target="slides/slide88.xml"/><Relationship Id="rId97" Type="http://schemas.openxmlformats.org/officeDocument/2006/relationships/slide" Target="slides/slide89.xml"/><Relationship Id="rId98" Type="http://schemas.openxmlformats.org/officeDocument/2006/relationships/slide" Target="slides/slide90.xml"/><Relationship Id="rId99" Type="http://schemas.openxmlformats.org/officeDocument/2006/relationships/slide" Target="slides/slide91.xml"/><Relationship Id="rId100" Type="http://schemas.openxmlformats.org/officeDocument/2006/relationships/slide" Target="slides/slide92.xml"/><Relationship Id="rId101" Type="http://schemas.openxmlformats.org/officeDocument/2006/relationships/slide" Target="slides/slide93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99F-31C7-45BD-BC7D-F5AD467E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C19-3651-4AB3-8640-57601307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1F7-6217-451B-BCE0-C96FE0A5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F10-B1FD-4B13-AC4E-B254072A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9ED7-BB3B-42F8-B66E-D38CC14F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FA49-3880-414A-97B4-DFE3C3E5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1680-6365-4B4B-A988-D720B1CE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9AFB-C80A-48CC-950C-25623703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FE40-748E-49E9-A262-A0C7BE2D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FE50-122E-4D16-9DB7-C60C1A07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AB58-3E48-430C-AF18-9DB3DC74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8FD-80E2-4AF0-BAB3-6B240BD5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3075-5B66-4DB3-B406-6C6DB1CC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4C50-D0E7-44B9-B58B-C2415ACA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4436-5704-489E-930E-0275FCCC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B00A-7CCE-48A0-BEC2-84C93BB9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EE9F-E3E8-4EF1-B0EF-8AA6448C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A525-3289-4AAA-A36D-94BC0125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BAAE-0496-41E1-AC7D-5559E3B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2001-09E1-4AC7-8119-47784D19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FB73-0515-4DDB-ACF7-57320510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11648-9BCE-4667-AC08-A939EDA8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B37-425E-4352-B891-06979EBC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60E5-6992-4A04-8D75-436FB206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1008-ED8F-4315-AC1B-FCB2CFD0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1267C-8EDA-4D49-B136-3BC8CAB4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82E7-5ABB-400D-B6E3-844FC98B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32EF-3830-4F8A-943D-EEDDDB6F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53BA1-072C-4438-B9B4-CF3A323E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629E5-5F56-462F-ABEE-3153DD86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698-068A-415D-9318-866B387E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4BF4-75D5-4120-ADF0-E44287FD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EA12-E56E-4EE3-93E2-CB582F44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B73B5-6375-4162-87D4-80590C1E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C6061-18E3-4F54-82D0-42CEF399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A3E17-1AE4-443B-A797-1FD6E710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4BD1-E86D-4DCF-BD70-D950AA2F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3BF0C-F177-4095-950F-2F1245AE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AC53A-99AB-4357-9573-9E39BC16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412B1-8D62-4735-AC92-007E571A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FBE63-BA80-474C-A226-FF901C3B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ACAAB-C21E-4155-8167-1107B5D1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D6E1-EE39-4B5B-8883-4FC16590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836-83D3-4141-9E1B-15D1F063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F092D-3B00-4BFD-B5E4-D085D51B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B3571-F4AD-4CCB-8135-45FD9D01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A1C49-9A5B-478A-8EEB-A6DFB2B0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DB555-F9D9-4EFF-95A6-97F2A4EF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8C81C-B946-48A3-973B-8C5B2B17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D1FA4-9F9A-4084-9BF1-73A812C4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37472-B1E5-462B-97D9-39DD8061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D3C80-FED3-4D97-BB83-1A1A448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D9A13-3E4C-4399-A7A1-00F2F0BF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548C-E3F1-4C16-A945-099BD29C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A77-E884-4BC4-AFAF-BFB814D2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CF164-B6B6-4B49-96BF-BD9CFA16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43396-6889-4E55-814E-1394D8BD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8FBE8-00AF-4BF0-BDEF-8DA8FEFF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1A551-AD78-4780-91E7-AE8104A6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08D41-EECB-4A5C-965A-583FC720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A7D14-0225-454E-B782-DDEED836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00B6E-0A82-4792-8378-39881A33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61FB1-6F13-41A8-B605-BB0DEBCE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10456-019C-4DF4-895E-B23571AF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AC3F2-1482-44B4-87D2-BFCF9D49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BBB-AF8A-4F67-B2D3-A76FA823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2D248-FF34-4ADA-896C-E495FED0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13288-5C7A-4832-AEB2-ABAF8CC1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BDE16-328D-4767-B299-8F311D64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CFE5E-FBEC-4924-8FED-DFBF36CB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A0CB2-EA63-4D46-B956-B3CE810D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D16-D5B9-45C8-B449-3F5E739D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924F-33A7-4BFE-A662-575397E4D26E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4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0767-5E29-475C-8611-DBE02324C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7CEA-612D-4E08-96F4-283A3066A740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194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7A94-C43D-48B6-A101-AC8E7829A69D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258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27FA-73C9-433F-B041-BB22E8054DEF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51F3-C9B1-4901-9469-4FC92ACA31E0}" type="slidenum">
              <a:rPr b="0" lang="en-N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tistics and Modelling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0" y="380880"/>
            <a:ext cx="9144000" cy="656892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4 requirements for using the Binomial Distribu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ixed number, </a:t>
            </a:r>
            <a:r>
              <a:rPr b="1" i="1" lang="en-NZ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of identical t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2.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2 Possible Outcomes for each trial (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succes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failu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3.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rials are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4.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robability of success,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is the same for each 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HINT:  Us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ternational 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ight  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lub 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E.g. Experiment: Drawing cards from a pack of 52 </a:t>
            </a:r>
            <a:r>
              <a:rPr b="1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 replace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4 trials by each class-member (</a:t>
            </a:r>
            <a:r>
              <a:rPr b="0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replacement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1 Trial:  Drawing a card o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2 Outcomes for each trial: </a:t>
            </a:r>
            <a:r>
              <a:rPr b="1" lang="en-NZ" sz="2300" spc="-1" strike="noStrike" u="sng">
                <a:solidFill>
                  <a:srgbClr val="ff0000"/>
                </a:solidFill>
                <a:uFillTx/>
                <a:latin typeface="Comic Sans MS"/>
              </a:rPr>
              <a:t>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or </a:t>
            </a:r>
            <a:r>
              <a:rPr b="1" lang="en-NZ" sz="2300" spc="-1" strike="noStrike" u="sng">
                <a:solidFill>
                  <a:srgbClr val="0000ff"/>
                </a:solidFill>
                <a:uFillTx/>
                <a:latin typeface="Comic Sans MS"/>
              </a:rPr>
              <a:t>not a 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iscrete random variable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: The number of hearts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, drawn in the 4 independent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Winner: The person who draws the most hear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0" y="681120"/>
            <a:ext cx="9144000" cy="666756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E.g. Experiment: Drawing cards from a pack of 52 </a:t>
            </a:r>
            <a:r>
              <a:rPr b="1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 replace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4 trials by each class-member (</a:t>
            </a:r>
            <a:r>
              <a:rPr b="0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replacement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1 Trial:  Drawing a card o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2 Outcomes for each trial: </a:t>
            </a:r>
            <a:r>
              <a:rPr b="1" lang="en-NZ" sz="2300" spc="-1" strike="noStrike" u="sng">
                <a:solidFill>
                  <a:srgbClr val="ff0000"/>
                </a:solidFill>
                <a:uFillTx/>
                <a:latin typeface="Comic Sans MS"/>
              </a:rPr>
              <a:t>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or </a:t>
            </a:r>
            <a:r>
              <a:rPr b="1" lang="en-NZ" sz="2300" spc="-1" strike="noStrike" u="sng">
                <a:solidFill>
                  <a:srgbClr val="0000ff"/>
                </a:solidFill>
                <a:uFillTx/>
                <a:latin typeface="Comic Sans MS"/>
              </a:rPr>
              <a:t>not a 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iscrete random variable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: The number of hearts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, drawn in the 4 independent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Winner: The person who draws the most hear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Success: Drawing a hear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P(success)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= 0.25. 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P(failure)    = 0.75.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0" y="681120"/>
            <a:ext cx="9144000" cy="666756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E.g. Experiment: Drawing cards from a pack of 52 </a:t>
            </a:r>
            <a:r>
              <a:rPr b="1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 replace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4 trials by each class-member (</a:t>
            </a:r>
            <a:r>
              <a:rPr b="0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replacement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1 Trial:  Drawing a card o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2 Outcomes for each trial: </a:t>
            </a:r>
            <a:r>
              <a:rPr b="1" lang="en-NZ" sz="2300" spc="-1" strike="noStrike" u="sng">
                <a:solidFill>
                  <a:srgbClr val="ff0000"/>
                </a:solidFill>
                <a:uFillTx/>
                <a:latin typeface="Comic Sans MS"/>
              </a:rPr>
              <a:t>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or </a:t>
            </a:r>
            <a:r>
              <a:rPr b="1" lang="en-NZ" sz="2300" spc="-1" strike="noStrike" u="sng">
                <a:solidFill>
                  <a:srgbClr val="0000ff"/>
                </a:solidFill>
                <a:uFillTx/>
                <a:latin typeface="Comic Sans MS"/>
              </a:rPr>
              <a:t>not a 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iscrete random variable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: The number of hearts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, drawn in the 4 independent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Winner: The person who draws the most hear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Success: Drawing a hear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P(success)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= 0.25. 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to represent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P(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P(failure)    = 0.75.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0" y="681120"/>
            <a:ext cx="9144000" cy="666756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E.g. Experiment: Drawing cards from a pack of 52 </a:t>
            </a:r>
            <a:r>
              <a:rPr b="1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1" lang="en-NZ" sz="2300" spc="-1" strike="noStrike">
                <a:solidFill>
                  <a:srgbClr val="333399"/>
                </a:solidFill>
                <a:latin typeface="Comic Sans MS"/>
              </a:rPr>
              <a:t> replace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4 trials by each class-member (</a:t>
            </a:r>
            <a:r>
              <a:rPr b="0" i="1" lang="en-NZ" sz="23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replacement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1 Trial:  Drawing a card o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2 Outcomes for each trial: </a:t>
            </a:r>
            <a:r>
              <a:rPr b="1" lang="en-NZ" sz="2300" spc="-1" strike="noStrike" u="sng">
                <a:solidFill>
                  <a:srgbClr val="ff0000"/>
                </a:solidFill>
                <a:uFillTx/>
                <a:latin typeface="Comic Sans MS"/>
              </a:rPr>
              <a:t>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 or </a:t>
            </a:r>
            <a:r>
              <a:rPr b="1" lang="en-NZ" sz="2300" spc="-1" strike="noStrike" u="sng">
                <a:solidFill>
                  <a:srgbClr val="0000ff"/>
                </a:solidFill>
                <a:uFillTx/>
                <a:latin typeface="Comic Sans MS"/>
              </a:rPr>
              <a:t>not a heart</a:t>
            </a:r>
            <a:r>
              <a:rPr b="0" lang="en-NZ" sz="23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iscrete random variable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: The number of hearts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, drawn in the 4 independent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Winner: The person who draws the most hear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Success: Drawing a hear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P(success)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= 0.25. 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to represent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P(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P(failure)    = 0.75.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- </a:t>
            </a:r>
            <a:r>
              <a:rPr b="1" i="1" lang="el-GR" sz="2400" spc="-1" strike="noStrike">
                <a:solidFill>
                  <a:srgbClr val="0000ff"/>
                </a:solidFill>
                <a:latin typeface="Times New Roman"/>
              </a:rPr>
              <a:t>π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” to represent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P(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iscrete random variable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: The number of hearts,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drawn in the 4 independent tr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inner: The person who draws the most he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uccess: Drawing a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P(success)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= 0.25. 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to represent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P(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P(failure)    = 0.75.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- </a:t>
            </a:r>
            <a:r>
              <a:rPr b="1" i="1" lang="el-GR" sz="2400" spc="-1" strike="noStrike">
                <a:solidFill>
                  <a:srgbClr val="0000ff"/>
                </a:solidFill>
                <a:latin typeface="Times New Roman"/>
              </a:rPr>
              <a:t>π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” to represent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P(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Q. What is the probability, in theory, that exactly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of the 4 cards that you draw will be hea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ell, the probability that the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3 are hearts and the other 1 is no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228240" y="304560"/>
            <a:ext cx="8915400" cy="65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inner: The person who draws the most he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uccess: Drawing a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P(success)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= 0.25. 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”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to represent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P(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P(failure)    = 0.75. 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We use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- </a:t>
            </a:r>
            <a:r>
              <a:rPr b="1" i="1" lang="el-GR" sz="2400" spc="-1" strike="noStrike">
                <a:solidFill>
                  <a:srgbClr val="0000ff"/>
                </a:solidFill>
                <a:latin typeface="Times New Roman"/>
              </a:rPr>
              <a:t>π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” to represent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P(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Q. What is the probability, in theory, that exactly three of the 4 cards that you draw will be hear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.e. P(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X=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ell, the probability that the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3 are hearts and the other 1 is no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228240" y="533520"/>
            <a:ext cx="89154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Q. What is the probability, in theory, that exactly three of the 4 cards that you draw will be hea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ell, the probability that the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3 are hearts and the other 1 is no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228240" y="-23760"/>
            <a:ext cx="8915400" cy="688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Q. What is the probability, in theory, that exactly three of the 4 cards that you draw will be hea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Well, the probability that the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first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3 are hearts and the other 1 is not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: What is this saying about how often we would expect to get 3 hearts when running this experi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: What is this saying about how often we would expect to get 3 hearts when running this experi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0" y="3973680"/>
            <a:ext cx="9144000" cy="311544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Probability Distributions </a:t>
            </a:r>
            <a:r>
              <a:rPr b="1" i="1" lang="en-NZ" sz="4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hievement Standard 906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Solve Probability Distribution Models to solve straightforward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4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xternally Ass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uLake Pages 278 </a:t>
            </a:r>
            <a:r>
              <a:rPr b="0" i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 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0" y="3973680"/>
            <a:ext cx="9144000" cy="311544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0" y="3973680"/>
            <a:ext cx="9144000" cy="311544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0" y="3973680"/>
            <a:ext cx="9144000" cy="311544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1"/>
              <p:cNvSpPr txBox="1"/>
              <p:nvPr/>
            </p:nvSpPr>
            <p:spPr>
              <a:xfrm>
                <a:off x="2057400" y="4572000"/>
                <a:ext cx="90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0" y="3973680"/>
            <a:ext cx="9144000" cy="311544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"/>
              <p:cNvSpPr txBox="1"/>
              <p:nvPr/>
            </p:nvSpPr>
            <p:spPr>
              <a:xfrm>
                <a:off x="2057400" y="4572000"/>
                <a:ext cx="90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0" y="397368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1"/>
              <p:cNvSpPr txBox="1"/>
              <p:nvPr/>
            </p:nvSpPr>
            <p:spPr>
              <a:xfrm>
                <a:off x="2057400" y="4572000"/>
                <a:ext cx="90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0" y="397368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s the probability of “success” in each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1"/>
              <p:cNvSpPr txBox="1"/>
              <p:nvPr/>
            </p:nvSpPr>
            <p:spPr>
              <a:xfrm>
                <a:off x="2057400" y="4572000"/>
                <a:ext cx="90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0" y="397368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s the probability of “success” in each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2362320" y="4495680"/>
                <a:ext cx="53316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UT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0" y="397368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s the probability of “success” in each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1"/>
              <p:cNvSpPr txBox="1"/>
              <p:nvPr/>
            </p:nvSpPr>
            <p:spPr>
              <a:xfrm>
                <a:off x="2057400" y="4572000"/>
                <a:ext cx="90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046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Binomial Distribution formul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calculate the theoretical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of getting each of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0, 1, 2, 3 or 4 heart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4 cards are selected at random with replac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ow these probabilities on a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robability distribution 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0" y="182880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s the probability of “success” in each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981080" y="2362320"/>
                <a:ext cx="900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70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3 hearts can be selected in 4 different orders (</a:t>
            </a:r>
            <a:r>
              <a:rPr b="1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X=3) 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0.2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25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× 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Activit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Binomial Distribution formul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calculate the theoretical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robability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of getting each of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0, 1, 2, 3 or 4 hearts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en 4 cards are selected at random with replac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ow these probabilities on a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probability distribution 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131760" y="352440"/>
            <a:ext cx="8991720" cy="1312920"/>
          </a:xfrm>
          <a:prstGeom prst="rect">
            <a:avLst/>
          </a:prstGeom>
          <a:solidFill>
            <a:srgbClr val="cc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HW:  Do Sigma (old – 2</a:t>
            </a:r>
            <a:r>
              <a:rPr b="1" lang="en-NZ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ed): p67 – Ex. 5.1.        </a:t>
            </a:r>
            <a:r>
              <a:rPr b="1" lang="en-NZ" sz="4000" spc="-1" strike="noStrike">
                <a:solidFill>
                  <a:srgbClr val="ff0000"/>
                </a:solidFill>
                <a:latin typeface="Comic Sans MS"/>
              </a:rPr>
              <a:t>SKIP Q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0" y="167652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s the probability of “success” in each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1981080" y="2209680"/>
                <a:ext cx="900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8:  Th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inomial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istribution (an introduc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 what the Binomial Distribution is &amp; its parameters, 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 and 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 the 4 requirements for using it (you will be memorising the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Binomial Distribution probabilities using the form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tes (sheet to fill in), cards activity &amp; examples as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igma (old – 2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ed): Pg. 67 – Ex. 5.1.  Finish for H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279360" y="4724280"/>
          <a:ext cx="8575560" cy="1752840"/>
        </p:xfrm>
        <a:graphic>
          <a:graphicData uri="http://schemas.openxmlformats.org/drawingml/2006/table">
            <a:tbl>
              <a:tblPr/>
              <a:tblGrid>
                <a:gridCol w="2708280"/>
                <a:gridCol w="1295280"/>
                <a:gridCol w="1219320"/>
                <a:gridCol w="1143000"/>
                <a:gridCol w="1143000"/>
                <a:gridCol w="1066680"/>
              </a:tblGrid>
              <a:tr h="855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0" i="1" lang="en-NZ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NZ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i="1" lang="en-NZ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NZ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TextBox 2"/>
          <p:cNvSpPr/>
          <p:nvPr/>
        </p:nvSpPr>
        <p:spPr>
          <a:xfrm>
            <a:off x="279360" y="3886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robability Distribution Table of Number of Hearts obtained (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) when 4 cards are selected with replacement from a standard 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12600" y="457200"/>
            <a:ext cx="9144000" cy="2893320"/>
          </a:xfrm>
          <a:prstGeom prst="rect">
            <a:avLst/>
          </a:prstGeom>
          <a:solidFill>
            <a:srgbClr val="ff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We define the Binomial variable, 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, by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NZ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    =    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(1–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N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en-NZ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is the number of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successe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out of 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NZ" sz="2800" spc="-1" strike="noStrike">
                <a:solidFill>
                  <a:srgbClr val="000000"/>
                </a:solidFill>
                <a:latin typeface="Times New Roman"/>
              </a:rPr>
              <a:t>independent trials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s the probability of “success” in each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2057400" y="990720"/>
                <a:ext cx="900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6" name="Text Box 5"/>
          <p:cNvSpPr/>
          <p:nvPr/>
        </p:nvSpPr>
        <p:spPr>
          <a:xfrm>
            <a:off x="282600" y="1752480"/>
            <a:ext cx="9144000" cy="1312920"/>
          </a:xfrm>
          <a:prstGeom prst="rect">
            <a:avLst/>
          </a:prstGeom>
          <a:solidFill>
            <a:srgbClr val="cc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HW:  Do Sigma (old – 2</a:t>
            </a:r>
            <a:r>
              <a:rPr b="1" lang="en-NZ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ed): p67 – Ex. 5.1.    </a:t>
            </a:r>
            <a:r>
              <a:rPr b="1" lang="en-NZ" sz="4000" spc="-1" strike="noStrike">
                <a:solidFill>
                  <a:srgbClr val="ff0000"/>
                </a:solidFill>
                <a:latin typeface="Comic Sans MS"/>
              </a:rPr>
              <a:t>SKIP Q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9:  Use th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inomial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istribution to calculate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:  Calculate binomial probabilities for individual and 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combine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events using the formula &amp; 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TARTER: Warm-up quiz (handouts to write answers 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mbined events 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o NuLake p285 and 286 (finish for HW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Year 13 tod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371240"/>
            <a:ext cx="8458200" cy="525780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Getting binomial distribution sort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Do warm-up quiz (answers on project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Copy notes on how to calculate Binomial probabilities for more than 1 value of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E.g. P(X</a:t>
            </a:r>
            <a:r>
              <a:rPr b="0" lang="en-NZ" sz="28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Do NuLake  pg. 285 and 286:  Q4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1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Extension people go right through to Q1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492480"/>
            <a:ext cx="9144000" cy="61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Warm-up Quiz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A police officer checks five cars in succession. She knows fro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xperience that the probability of a car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having a warrant of fitness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(WOF) is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1/6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(1.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Write out the 4 requirements for the use of the </a:t>
            </a: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Binomial Dist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(2.)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If we use the Binomial Distn to model the number of cars not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having a WOF, which of the 4 requirements are definitely me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Do any require us to make questionable assumption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(3.)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 Use the binomial distribution to calculate the probability th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three of the cars have not got warrants of fitn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0" y="293760"/>
            <a:ext cx="958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 police officer checks five cars in succession. The probability of a car not h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OF is 1/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(1.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Write out the 4 requirements for the use of th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Binomial Dist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507960" y="140220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four conditions to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677880" y="2895480"/>
            <a:ext cx="77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only two possible outcomes (success or failure) at each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8"/>
          <p:cNvSpPr/>
          <p:nvPr/>
        </p:nvSpPr>
        <p:spPr>
          <a:xfrm>
            <a:off x="759960" y="175248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a fixed number of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754560" y="556272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probability of success at each trial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0"/>
          <p:cNvSpPr/>
          <p:nvPr/>
        </p:nvSpPr>
        <p:spPr>
          <a:xfrm>
            <a:off x="682200" y="4267080"/>
            <a:ext cx="34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each trial is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0" y="156600"/>
            <a:ext cx="958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 police officer checks five cars in succession. The probability of a car not h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OF is 1/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(2.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f we use the Bin. Distn to model the number of cars not having a WOF,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f the 4 requirements are definitely met? Which require us to make assump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507960" y="140220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four conditions to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754200" y="2743200"/>
            <a:ext cx="77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only two possible outcomes (success or failure) at each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683640" y="182880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a fixed number of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830880" y="564660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probability of success at each trial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758520" y="3657600"/>
            <a:ext cx="34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each trial is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1087200" y="312408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es. A car either has a WOF or doe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969840" y="22096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es.  5 cars are che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1009800" y="4038480"/>
            <a:ext cx="813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king an assumption that whether one car has a WOF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ependent of whether another one does.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houl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be a valid assump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6600"/>
            <a:ext cx="958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 police officer checks five cars in succession. The probability of a car not ha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OF is 1/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(2.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f we use the Bin. Distn to model the number of cars not having a WOF, 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of the 4 requirements are definitely met? Which require us to make assump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507960" y="140220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four conditions to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754200" y="2743200"/>
            <a:ext cx="77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only two possible outcomes (success or failure) at each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683640" y="182880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a fixed number of t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830880" y="564660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probability of success at each trial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758520" y="3657600"/>
            <a:ext cx="34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•  </a:t>
            </a:r>
            <a:r>
              <a:rPr b="0" i="1" lang="en-US" sz="2400" spc="-1" strike="noStrike">
                <a:solidFill>
                  <a:srgbClr val="c0504d"/>
                </a:solidFill>
                <a:latin typeface="Times New Roman"/>
                <a:ea typeface="Arial"/>
              </a:rPr>
              <a:t>each trial is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1"/>
          <p:cNvSpPr/>
          <p:nvPr/>
        </p:nvSpPr>
        <p:spPr>
          <a:xfrm>
            <a:off x="1087200" y="312408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es. A car either has a WOF or doe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969840" y="220968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es.  5 cars are che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1066680" y="602784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es, again so long as we don’t get cars travelling in conv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4"/>
          <p:cNvSpPr/>
          <p:nvPr/>
        </p:nvSpPr>
        <p:spPr>
          <a:xfrm>
            <a:off x="1009800" y="4038480"/>
            <a:ext cx="813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king an assumption that whether one car has a WOF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ependent of whether another one does.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houl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be a valid assumption. 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There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i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the possibility tha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ea typeface="Arial"/>
              </a:rPr>
              <a:t>successive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cars could be travelling in convoy!  But this would be r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0"/>
            <a:ext cx="9144000" cy="11635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446400" y="-33840"/>
            <a:ext cx="85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lice officer checks five cars in succession. The probability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 not having a WOF is 1/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the probability that three of the cars have not got WO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1200" y="1217880"/>
            <a:ext cx="571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Give the values of the two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772920" y="12466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1285920" y="124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Object 9"/>
          <p:cNvGraphicFramePr/>
          <p:nvPr/>
        </p:nvGraphicFramePr>
        <p:xfrm>
          <a:off x="2560680" y="1171440"/>
          <a:ext cx="2350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0680" y="1171440"/>
                    <a:ext cx="235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Rectangle 10"/>
          <p:cNvSpPr/>
          <p:nvPr/>
        </p:nvSpPr>
        <p:spPr>
          <a:xfrm>
            <a:off x="3200400" y="1902960"/>
            <a:ext cx="5943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Calculate the probability of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i.e. a given car fails its WOF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1-</a:t>
            </a:r>
            <a:r>
              <a:rPr b="0" i="1" lang="el-GR" sz="2400" spc="-1" strike="noStrike">
                <a:solidFill>
                  <a:srgbClr val="0000ff"/>
                </a:solidFill>
                <a:latin typeface="Comic Sans MS"/>
              </a:rPr>
              <a:t>π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610920" y="1904400"/>
            <a:ext cx="6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Object 12"/>
          <p:cNvGraphicFramePr/>
          <p:nvPr/>
        </p:nvGraphicFramePr>
        <p:xfrm>
          <a:off x="1295280" y="1905120"/>
          <a:ext cx="52092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5209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Rectangle 13"/>
          <p:cNvSpPr/>
          <p:nvPr/>
        </p:nvSpPr>
        <p:spPr>
          <a:xfrm>
            <a:off x="433440" y="1246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1981080" y="1218600"/>
            <a:ext cx="7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0" y="0"/>
            <a:ext cx="9144000" cy="11635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5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446400" y="-33840"/>
            <a:ext cx="85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lice officer checks five cars in succession. The probability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 not having a WOF is 1/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hree of the cars have not got WO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772920" y="12466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1285920" y="124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8"/>
          <p:cNvGraphicFramePr/>
          <p:nvPr/>
        </p:nvGraphicFramePr>
        <p:xfrm>
          <a:off x="2560680" y="1171440"/>
          <a:ext cx="2350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0680" y="1171440"/>
                    <a:ext cx="235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Rectangle 9"/>
          <p:cNvSpPr/>
          <p:nvPr/>
        </p:nvSpPr>
        <p:spPr>
          <a:xfrm>
            <a:off x="3200400" y="127224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</a:t>
            </a:r>
            <a:r>
              <a:rPr b="0" i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10"/>
          <p:cNvGraphicFramePr/>
          <p:nvPr/>
        </p:nvGraphicFramePr>
        <p:xfrm>
          <a:off x="4240080" y="1177920"/>
          <a:ext cx="23508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0080" y="1177920"/>
                    <a:ext cx="235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Rectangle 11"/>
          <p:cNvSpPr/>
          <p:nvPr/>
        </p:nvSpPr>
        <p:spPr>
          <a:xfrm>
            <a:off x="433440" y="1246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"/>
          <p:cNvSpPr/>
          <p:nvPr/>
        </p:nvSpPr>
        <p:spPr>
          <a:xfrm>
            <a:off x="3659760" y="3889440"/>
            <a:ext cx="4807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What are we trying to find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and what formula will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2041920" y="121824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5"/>
          <p:cNvSpPr/>
          <p:nvPr/>
        </p:nvSpPr>
        <p:spPr>
          <a:xfrm>
            <a:off x="3434040" y="1832040"/>
            <a:ext cx="571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Give the values of the two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6"/>
          <p:cNvSpPr/>
          <p:nvPr/>
        </p:nvSpPr>
        <p:spPr>
          <a:xfrm>
            <a:off x="3200400" y="2441160"/>
            <a:ext cx="5943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Calculate the probability of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(i.e. a given car fails its WOF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ff"/>
                </a:solidFill>
                <a:latin typeface="Comic Sans MS"/>
              </a:rPr>
              <a:t>1-</a:t>
            </a:r>
            <a:r>
              <a:rPr b="0" i="1" lang="el-GR" sz="2400" spc="-1" strike="noStrike">
                <a:solidFill>
                  <a:srgbClr val="0000ff"/>
                </a:solidFill>
                <a:latin typeface="Comic Sans MS"/>
              </a:rPr>
              <a:t>π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2362320" y="4648320"/>
            <a:ext cx="20574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0" y="0"/>
            <a:ext cx="9144000" cy="11635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15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446400" y="-33840"/>
            <a:ext cx="85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police officer checks five cars in succession. The probability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r not having a WOF is 1/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Find the probability that three of the cars have not got WO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772920" y="12466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285920" y="124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Object 9"/>
          <p:cNvGraphicFramePr/>
          <p:nvPr/>
        </p:nvGraphicFramePr>
        <p:xfrm>
          <a:off x="2560680" y="1171440"/>
          <a:ext cx="2350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0680" y="1171440"/>
                    <a:ext cx="235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Rectangle 10"/>
          <p:cNvSpPr/>
          <p:nvPr/>
        </p:nvSpPr>
        <p:spPr>
          <a:xfrm>
            <a:off x="3200400" y="127224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</a:t>
            </a:r>
            <a:r>
              <a:rPr b="0" i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Object 11"/>
          <p:cNvGraphicFramePr/>
          <p:nvPr/>
        </p:nvGraphicFramePr>
        <p:xfrm>
          <a:off x="4240080" y="1177920"/>
          <a:ext cx="23508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0080" y="1177920"/>
                    <a:ext cx="235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12"/>
          <p:cNvSpPr/>
          <p:nvPr/>
        </p:nvSpPr>
        <p:spPr>
          <a:xfrm>
            <a:off x="433440" y="1246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3"/>
          <p:cNvSpPr/>
          <p:nvPr/>
        </p:nvSpPr>
        <p:spPr>
          <a:xfrm>
            <a:off x="786240" y="1913400"/>
            <a:ext cx="26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)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4"/>
          <p:cNvSpPr/>
          <p:nvPr/>
        </p:nvSpPr>
        <p:spPr>
          <a:xfrm>
            <a:off x="3329280" y="1894680"/>
            <a:ext cx="332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1-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n–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16"/>
          <p:cNvGraphicFramePr/>
          <p:nvPr/>
        </p:nvGraphicFramePr>
        <p:xfrm>
          <a:off x="839880" y="2919240"/>
          <a:ext cx="154944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9880" y="2919240"/>
                    <a:ext cx="1549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17"/>
          <p:cNvGraphicFramePr/>
          <p:nvPr/>
        </p:nvGraphicFramePr>
        <p:xfrm>
          <a:off x="2414520" y="2670120"/>
          <a:ext cx="238752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4520" y="2670120"/>
                    <a:ext cx="238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20"/>
          <p:cNvGraphicFramePr/>
          <p:nvPr/>
        </p:nvGraphicFramePr>
        <p:xfrm>
          <a:off x="2133720" y="3657600"/>
          <a:ext cx="99036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3657600"/>
                    <a:ext cx="990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Rectangle 22"/>
          <p:cNvSpPr/>
          <p:nvPr/>
        </p:nvSpPr>
        <p:spPr>
          <a:xfrm>
            <a:off x="6086880" y="2762640"/>
            <a:ext cx="2491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Calculate P(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X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3"/>
          <p:cNvSpPr/>
          <p:nvPr/>
        </p:nvSpPr>
        <p:spPr>
          <a:xfrm>
            <a:off x="6838920" y="6451560"/>
            <a:ext cx="2079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4"/>
          <p:cNvSpPr/>
          <p:nvPr/>
        </p:nvSpPr>
        <p:spPr>
          <a:xfrm>
            <a:off x="1965960" y="121824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5"/>
          <p:cNvSpPr/>
          <p:nvPr/>
        </p:nvSpPr>
        <p:spPr>
          <a:xfrm>
            <a:off x="205740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0.03215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0" y="54864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0" y="457200"/>
            <a:ext cx="9144000" cy="57308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500" spc="-1" strike="noStrike">
                <a:solidFill>
                  <a:srgbClr val="000000"/>
                </a:solidFill>
                <a:latin typeface="Comic Sans MS"/>
              </a:rPr>
              <a:t>Experiment: Drawing cards from a pack of 52 </a:t>
            </a:r>
            <a:r>
              <a:rPr b="1" i="1" lang="en-NZ" sz="35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NZ" sz="3500" spc="-1" strike="noStrike">
                <a:solidFill>
                  <a:srgbClr val="000000"/>
                </a:solidFill>
                <a:latin typeface="Comic Sans MS"/>
              </a:rPr>
              <a:t> replacemen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Winner: The person who draws the most </a:t>
            </a:r>
            <a:r>
              <a:rPr b="1" lang="en-NZ" sz="3200" spc="-1" strike="noStrike" u="sng">
                <a:solidFill>
                  <a:srgbClr val="ff0000"/>
                </a:solidFill>
                <a:uFillTx/>
                <a:latin typeface="Comic Sans MS"/>
              </a:rPr>
              <a:t>hearts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in 4 attem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Record the number of hearts that you get (0, 1, 2, 3 or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100" spc="-1" strike="noStrike">
                <a:solidFill>
                  <a:srgbClr val="ff0000"/>
                </a:solidFill>
                <a:latin typeface="Comic Sans MS"/>
              </a:rPr>
              <a:t>Later we will calculate the </a:t>
            </a:r>
            <a:r>
              <a:rPr b="1" i="1" lang="en-NZ" sz="3100" spc="-1" strike="noStrike">
                <a:solidFill>
                  <a:srgbClr val="ff0000"/>
                </a:solidFill>
                <a:latin typeface="Comic Sans MS"/>
              </a:rPr>
              <a:t>theoretical probability </a:t>
            </a:r>
            <a:r>
              <a:rPr b="0" i="1" lang="en-NZ" sz="3100" spc="-1" strike="noStrike">
                <a:solidFill>
                  <a:srgbClr val="ff0000"/>
                </a:solidFill>
                <a:latin typeface="Comic Sans MS"/>
              </a:rPr>
              <a:t>of getting each number of hearts (0, 1, 2, 3 or 4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0" y="55324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152280" y="4419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Object 16"/>
          <p:cNvGraphicFramePr/>
          <p:nvPr/>
        </p:nvGraphicFramePr>
        <p:xfrm>
          <a:off x="857160" y="1913040"/>
          <a:ext cx="154944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913040"/>
                    <a:ext cx="1549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17"/>
          <p:cNvGraphicFramePr/>
          <p:nvPr/>
        </p:nvGraphicFramePr>
        <p:xfrm>
          <a:off x="2432160" y="1663560"/>
          <a:ext cx="2387520" cy="7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2160" y="1663560"/>
                    <a:ext cx="238752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20"/>
          <p:cNvGraphicFramePr/>
          <p:nvPr/>
        </p:nvGraphicFramePr>
        <p:xfrm>
          <a:off x="2151000" y="2651040"/>
          <a:ext cx="9907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1000" y="2651040"/>
                    <a:ext cx="9907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Rectangle 22"/>
          <p:cNvSpPr/>
          <p:nvPr/>
        </p:nvSpPr>
        <p:spPr>
          <a:xfrm>
            <a:off x="6104520" y="1756080"/>
            <a:ext cx="2491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Calculate P(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X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2379600" y="3565440"/>
            <a:ext cx="2057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2075040" y="3565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0.03215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3252960" y="27180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–</a:t>
            </a:r>
            <a:r>
              <a:rPr b="0" i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Object 11"/>
          <p:cNvGraphicFramePr/>
          <p:nvPr/>
        </p:nvGraphicFramePr>
        <p:xfrm>
          <a:off x="4292640" y="177840"/>
          <a:ext cx="235080" cy="615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92640" y="177840"/>
                    <a:ext cx="235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Rectangle 12"/>
          <p:cNvSpPr/>
          <p:nvPr/>
        </p:nvSpPr>
        <p:spPr>
          <a:xfrm>
            <a:off x="486000" y="246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838440" y="913320"/>
            <a:ext cx="26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nd P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3)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3381840" y="894600"/>
            <a:ext cx="332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=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1-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n–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4"/>
          <p:cNvSpPr/>
          <p:nvPr/>
        </p:nvSpPr>
        <p:spPr>
          <a:xfrm>
            <a:off x="2018160" y="21816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π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839520" y="2275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1352520" y="227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Object 9"/>
          <p:cNvGraphicFramePr/>
          <p:nvPr/>
        </p:nvGraphicFramePr>
        <p:xfrm>
          <a:off x="2590920" y="228600"/>
          <a:ext cx="234720" cy="61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228600"/>
                    <a:ext cx="234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0" y="3931920"/>
            <a:ext cx="91440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1522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Object 16"/>
          <p:cNvGraphicFramePr/>
          <p:nvPr/>
        </p:nvGraphicFramePr>
        <p:xfrm>
          <a:off x="863640" y="554040"/>
          <a:ext cx="154944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554040"/>
                    <a:ext cx="1549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17"/>
          <p:cNvGraphicFramePr/>
          <p:nvPr/>
        </p:nvGraphicFramePr>
        <p:xfrm>
          <a:off x="2438280" y="304920"/>
          <a:ext cx="23878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04920"/>
                    <a:ext cx="23878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20"/>
          <p:cNvGraphicFramePr/>
          <p:nvPr/>
        </p:nvGraphicFramePr>
        <p:xfrm>
          <a:off x="2157480" y="1292400"/>
          <a:ext cx="99036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6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7480" y="1292400"/>
                    <a:ext cx="990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22"/>
          <p:cNvSpPr/>
          <p:nvPr/>
        </p:nvSpPr>
        <p:spPr>
          <a:xfrm>
            <a:off x="6110640" y="397080"/>
            <a:ext cx="2491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Calculate P(</a:t>
            </a:r>
            <a:r>
              <a:rPr b="0" i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X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386080" y="2206800"/>
            <a:ext cx="20574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2081160" y="2206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=  0.03215 (4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4"/>
          <p:cNvSpPr/>
          <p:nvPr/>
        </p:nvSpPr>
        <p:spPr>
          <a:xfrm>
            <a:off x="167652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"/>
          <p:cNvSpPr/>
          <p:nvPr/>
        </p:nvSpPr>
        <p:spPr>
          <a:xfrm>
            <a:off x="4952880" y="3429000"/>
            <a:ext cx="6858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0" y="3429000"/>
            <a:ext cx="5638680" cy="3808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5029200" y="1600200"/>
            <a:ext cx="609480" cy="22096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4"/>
          <p:cNvSpPr/>
          <p:nvPr/>
        </p:nvSpPr>
        <p:spPr>
          <a:xfrm>
            <a:off x="4952880" y="3429000"/>
            <a:ext cx="6858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3429000"/>
            <a:ext cx="5638680" cy="3808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5029200" y="1600200"/>
            <a:ext cx="609480" cy="22096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4"/>
          <p:cNvSpPr/>
          <p:nvPr/>
        </p:nvSpPr>
        <p:spPr>
          <a:xfrm>
            <a:off x="4952880" y="342900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3429000"/>
            <a:ext cx="5638680" cy="6094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5029200" y="1600200"/>
            <a:ext cx="609480" cy="2438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1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4"/>
          <p:cNvSpPr/>
          <p:nvPr/>
        </p:nvSpPr>
        <p:spPr>
          <a:xfrm>
            <a:off x="4952880" y="3429000"/>
            <a:ext cx="68580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0" y="3429000"/>
            <a:ext cx="5638680" cy="6094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5029200" y="1600200"/>
            <a:ext cx="609480" cy="24382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0" y="563400"/>
            <a:ext cx="9144000" cy="61880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Experiment: Drawing cards from a pack of 52 </a:t>
            </a:r>
            <a:r>
              <a:rPr b="1" i="1" lang="en-NZ" sz="22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 replac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Winner: The person who draws the most </a:t>
            </a:r>
            <a:r>
              <a:rPr b="1" lang="en-NZ" sz="2200" spc="-1" strike="noStrike" u="sng">
                <a:solidFill>
                  <a:srgbClr val="ff0000"/>
                </a:solidFill>
                <a:uFillTx/>
                <a:latin typeface="Comic Sans MS"/>
              </a:rPr>
              <a:t>hearts</a:t>
            </a: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 in 4 attem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Record the number of hearts that you get (0, 1, 2, 3 or 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Later we will calculate the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theoretical probability </a:t>
            </a:r>
            <a:r>
              <a:rPr b="0" i="1" lang="en-NZ" sz="2400" spc="-1" strike="noStrike">
                <a:solidFill>
                  <a:srgbClr val="ff0000"/>
                </a:solidFill>
                <a:latin typeface="Comic Sans MS"/>
              </a:rPr>
              <a:t>of getting each number of hearts (0, 1, 2, 3 or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icture 6"/>
          <p:cNvSpPr/>
          <p:nvPr/>
        </p:nvSpPr>
        <p:spPr>
          <a:xfrm>
            <a:off x="228600" y="4495680"/>
            <a:ext cx="859140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1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4"/>
          <p:cNvSpPr/>
          <p:nvPr/>
        </p:nvSpPr>
        <p:spPr>
          <a:xfrm>
            <a:off x="4952880" y="3429000"/>
            <a:ext cx="7621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0" y="3429000"/>
            <a:ext cx="5638680" cy="838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5029200" y="1600200"/>
            <a:ext cx="609480" cy="26668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9"/>
          <p:cNvSpPr/>
          <p:nvPr/>
        </p:nvSpPr>
        <p:spPr>
          <a:xfrm>
            <a:off x="380880" y="4579200"/>
            <a:ext cx="3581640" cy="192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1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23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4"/>
          <p:cNvSpPr/>
          <p:nvPr/>
        </p:nvSpPr>
        <p:spPr>
          <a:xfrm>
            <a:off x="4952880" y="3429000"/>
            <a:ext cx="7621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0" y="3429000"/>
            <a:ext cx="5638680" cy="838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5029200" y="1600200"/>
            <a:ext cx="609480" cy="26668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9"/>
          <p:cNvSpPr/>
          <p:nvPr/>
        </p:nvSpPr>
        <p:spPr>
          <a:xfrm>
            <a:off x="380880" y="4620600"/>
            <a:ext cx="3581640" cy="222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1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23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P(X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2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4"/>
          <p:cNvSpPr/>
          <p:nvPr/>
        </p:nvSpPr>
        <p:spPr>
          <a:xfrm>
            <a:off x="4952880" y="3429000"/>
            <a:ext cx="7621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0" y="3429000"/>
            <a:ext cx="5638680" cy="838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5029200" y="1600200"/>
            <a:ext cx="609480" cy="26668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5"/>
          <p:cNvSpPr/>
          <p:nvPr/>
        </p:nvSpPr>
        <p:spPr>
          <a:xfrm>
            <a:off x="457200" y="647712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9134640" cy="26193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"/>
          <p:cNvPicPr/>
          <p:nvPr/>
        </p:nvPicPr>
        <p:blipFill>
          <a:blip r:embed="rId2"/>
          <a:stretch/>
        </p:blipFill>
        <p:spPr>
          <a:xfrm>
            <a:off x="0" y="3352680"/>
            <a:ext cx="9020160" cy="287676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9"/>
          <p:cNvSpPr/>
          <p:nvPr/>
        </p:nvSpPr>
        <p:spPr>
          <a:xfrm>
            <a:off x="380880" y="4620600"/>
            <a:ext cx="3581640" cy="2228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arameters: n=10,  </a:t>
            </a:r>
            <a:r>
              <a:rPr b="0" lang="pt-P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To find P(X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0)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02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1)  = 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1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P(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X=</a:t>
            </a:r>
            <a:r>
              <a:rPr b="0" lang="pt-PT" sz="2000" spc="-1" strike="noStrike">
                <a:solidFill>
                  <a:srgbClr val="000000"/>
                </a:solidFill>
                <a:latin typeface="Comic Sans MS"/>
              </a:rPr>
              <a:t> 2)  = </a:t>
            </a:r>
            <a:r>
              <a:rPr b="1" lang="pt-PT" sz="2000" spc="-1" strike="noStrike">
                <a:solidFill>
                  <a:srgbClr val="ff0000"/>
                </a:solidFill>
                <a:latin typeface="Comic Sans MS"/>
              </a:rPr>
              <a:t>0.23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P(X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pt-PT" sz="2000" spc="-1" strike="noStrike">
                <a:solidFill>
                  <a:srgbClr val="000000"/>
                </a:solidFill>
                <a:latin typeface="Comic Sans MS"/>
              </a:rPr>
              <a:t>2) = 0.38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4"/>
          <p:cNvSpPr/>
          <p:nvPr/>
        </p:nvSpPr>
        <p:spPr>
          <a:xfrm>
            <a:off x="4952880" y="3429000"/>
            <a:ext cx="7621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6"/>
          <p:cNvSpPr/>
          <p:nvPr/>
        </p:nvSpPr>
        <p:spPr>
          <a:xfrm>
            <a:off x="0" y="3429000"/>
            <a:ext cx="533520" cy="38088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8"/>
          <p:cNvSpPr/>
          <p:nvPr/>
        </p:nvSpPr>
        <p:spPr>
          <a:xfrm>
            <a:off x="5105520" y="1523880"/>
            <a:ext cx="380880" cy="304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3429000"/>
            <a:ext cx="5638680" cy="838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029200" y="1600200"/>
            <a:ext cx="609480" cy="2666880"/>
          </a:xfrm>
          <a:prstGeom prst="rect">
            <a:avLst/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15"/>
          <p:cNvSpPr/>
          <p:nvPr/>
        </p:nvSpPr>
        <p:spPr>
          <a:xfrm>
            <a:off x="457200" y="647712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4"/>
          <p:cNvSpPr/>
          <p:nvPr/>
        </p:nvSpPr>
        <p:spPr>
          <a:xfrm>
            <a:off x="167652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4"/>
          <p:cNvSpPr/>
          <p:nvPr/>
        </p:nvSpPr>
        <p:spPr>
          <a:xfrm>
            <a:off x="167652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4"/>
          <p:cNvSpPr/>
          <p:nvPr/>
        </p:nvSpPr>
        <p:spPr>
          <a:xfrm>
            <a:off x="320040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4"/>
          <p:cNvSpPr/>
          <p:nvPr/>
        </p:nvSpPr>
        <p:spPr>
          <a:xfrm>
            <a:off x="320040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320040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4"/>
          <p:cNvSpPr/>
          <p:nvPr/>
        </p:nvSpPr>
        <p:spPr>
          <a:xfrm>
            <a:off x="472428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0" y="609480"/>
            <a:ext cx="9144000" cy="61880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 u="sng">
                <a:solidFill>
                  <a:srgbClr val="000000"/>
                </a:solidFill>
                <a:uFillTx/>
                <a:latin typeface="Comic Sans MS"/>
              </a:rPr>
              <a:t>The BINOMIAL DISTRIBU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Used for situations where we’re running a series of trials, each of which has TWO POSSIBLE OUTCOMES – success and failure (e.g. tossing a coin – if you call ‘heads’ each tim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We use the 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Binomial Distribution 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to work out the probability of getting a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particular number 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of 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successful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 outcomes (e.g. 6 heads if we toss a coin 10 time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4"/>
          <p:cNvSpPr/>
          <p:nvPr/>
        </p:nvSpPr>
        <p:spPr>
          <a:xfrm>
            <a:off x="472428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4"/>
          <p:cNvSpPr/>
          <p:nvPr/>
        </p:nvSpPr>
        <p:spPr>
          <a:xfrm>
            <a:off x="4724280" y="2666880"/>
            <a:ext cx="11430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0.23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E.g.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23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1" lang="en-NZ" sz="2800" spc="-1" strike="noStrike" u="sng">
                <a:solidFill>
                  <a:srgbClr val="ff0000"/>
                </a:solidFill>
                <a:uFillTx/>
                <a:latin typeface="Arial"/>
              </a:rPr>
              <a:t>0.3828 </a:t>
            </a: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NZ" sz="2800" spc="-1" strike="noStrike">
                <a:solidFill>
                  <a:srgbClr val="ff0000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304920" y="4343400"/>
            <a:ext cx="8458200" cy="2514600"/>
          </a:xfrm>
          <a:prstGeom prst="rect">
            <a:avLst/>
          </a:prstGeom>
          <a:solidFill>
            <a:srgbClr val="ffffff"/>
          </a:solidFill>
          <a:ln w="92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NuLake pg. 285 and 286: Q4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tension people:  Q4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  Q12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9 involve intersections and unions with 2 or more independent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10:  Practice calculating Binomial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arning Outcomes:  Practice calculating Binomial probabilities for 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combine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events and become confident at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How to use your G.C. to calculate binomial prob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Finish NuLake pg. 285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28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o Sigma (must be in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ol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edi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Ex. 5.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Yesterday’s example: Calculate  P 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2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2)  = P(X=0) + P(X=1) + P(X=2)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~ look up 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0.23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1" lang="en-NZ" sz="2800" spc="-1" strike="noStrike" u="sng">
                <a:solidFill>
                  <a:srgbClr val="ff0000"/>
                </a:solidFill>
                <a:uFillTx/>
                <a:latin typeface="Arial"/>
              </a:rPr>
              <a:t>0.3828 </a:t>
            </a:r>
            <a:r>
              <a:rPr b="1" lang="en-N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NZ" sz="2800" spc="-1" strike="noStrike">
                <a:solidFill>
                  <a:srgbClr val="ff0000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 on your G.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Yesterday’s example: Calculate  P (X</a:t>
            </a:r>
            <a:r>
              <a:rPr b="0" lang="en-NZ" sz="1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2)  =  P(X=0) + P(X=1) + P(X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2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0.3828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NZ" sz="1800" spc="-1" strike="noStrike">
                <a:solidFill>
                  <a:srgbClr val="ff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304920" y="2971800"/>
            <a:ext cx="88390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 on your G.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Yesterday’s example: Calculate  P (X</a:t>
            </a:r>
            <a:r>
              <a:rPr b="0" lang="en-NZ" sz="1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2) for n=10, </a:t>
            </a:r>
            <a:r>
              <a:rPr b="0" lang="en-NZ" sz="1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P(X</a:t>
            </a:r>
            <a:r>
              <a:rPr b="0" lang="en-NZ" sz="1800" spc="-1" strike="noStrike" u="sng">
                <a:solidFill>
                  <a:srgbClr val="0000ff"/>
                </a:solidFill>
                <a:uFillTx/>
                <a:latin typeface="Arial"/>
              </a:rPr>
              <a:t>&lt;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2)  =  P(X=0) + P(X=1) + P(X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0282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1211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0.2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0.3828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NZ" sz="1800" spc="-1" strike="noStrike">
                <a:solidFill>
                  <a:srgbClr val="ff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0000"/>
                </a:solidFill>
                <a:latin typeface="Arial"/>
              </a:rPr>
              <a:t>BUT…  there is a much faster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04920" y="2971800"/>
            <a:ext cx="88390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 DIS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like you did for the Normal D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INM (F5)      (Binomial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ulativ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probabilities, e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(X ≤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: Variab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” means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Enter what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is LESS THAN OR EQUAL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B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omial probabilities,  e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(X=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mul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probabilities,  e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(X ≤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How to calculate Binomial probabilities for multiple X values on your G.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304920" y="838080"/>
            <a:ext cx="883908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n your Graphics Calcul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AT,  DIS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like you did for the Normal D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INM (F5)      (Binomial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ulativ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probabilities, e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(X ≤ 2)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ata: Variab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” means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&lt;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  Enter what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is LESS THAN OR EQUAL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B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omial probabilities,  e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(X=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mul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probabilities,  e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(X ≤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304920" y="525780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0" y="49528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for previous example:  Calculate  P (X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) for n=10, </a:t>
            </a:r>
            <a:r>
              <a:rPr b="0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Under B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c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 Enter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: 2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 This means </a:t>
            </a:r>
            <a:r>
              <a:rPr b="1" i="1" lang="en-NZ" sz="24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Times New Roman"/>
              </a:rPr>
              <a:t>&lt;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2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yp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execut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</a:rPr>
              <a:t>Check that you get  0.38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1371600"/>
          </a:xfrm>
          <a:prstGeom prst="rect">
            <a:avLst/>
          </a:prstGeom>
          <a:solidFill>
            <a:srgbClr val="ccffff"/>
          </a:solidFill>
          <a:ln w="92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inish NuLake pg. 286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288 (right up to Q1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n Sigma  (must be in old edition):  Ex. 5.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0" dur="1" fill="hold"/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1" dur="1" fill="hold"/>
                                  <p:tgtEl>
                                    <p:spTgt spid="6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2" dur="1" fill="hold"/>
                                  <p:tgtEl>
                                    <p:spTgt spid="6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11:  Solv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inverse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inomial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istribution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the number of trials required for the probability of getting at least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uccesses to be at a certain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lculate </a:t>
            </a:r>
            <a:r>
              <a:rPr b="0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the probability of success in a single trial if told the probability of </a:t>
            </a:r>
            <a:r>
              <a:rPr b="0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successes in </a:t>
            </a:r>
            <a:r>
              <a:rPr b="0" i="1" lang="en-NZ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r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457200" y="4648320"/>
            <a:ext cx="8458200" cy="19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2 Examples as class,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Old Sigma (2</a:t>
            </a:r>
            <a:r>
              <a:rPr b="0" lang="en-NZ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ed): Pg. 73 – Ex. 5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0" y="838080"/>
            <a:ext cx="9144000" cy="3581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0" y="1220760"/>
            <a:ext cx="91440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.g.1: A teacher tosses a pair of dice at the start of every lesson and tells his class that they get a free period if he gets double si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ame the 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of the Binomial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hat would count as one trial?  Calculate the probability of success in a single 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times must the teacher do this for there to be at least a 50% chance of getting at least one free peri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verse Binomi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0" y="4419360"/>
            <a:ext cx="91440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mber of trials that result in double sixe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   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do it this way, so take th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7"/>
          <p:cNvSpPr/>
          <p:nvPr/>
        </p:nvSpPr>
        <p:spPr>
          <a:xfrm>
            <a:off x="0" y="1981080"/>
            <a:ext cx="91440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Answer: 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 (number of trials)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d   </a:t>
            </a: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 (prob. of success in any single tri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8"/>
          <p:cNvSpPr/>
          <p:nvPr/>
        </p:nvSpPr>
        <p:spPr>
          <a:xfrm>
            <a:off x="0" y="304812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Answer: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One trial: tossing the pair of dice o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= P(double sixes)  =  1/36   assuming the dice are both f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Object 8"/>
              <p:cNvSpPr txBox="1"/>
              <p:nvPr/>
            </p:nvSpPr>
            <p:spPr>
              <a:xfrm>
                <a:off x="4572000" y="5562720"/>
                <a:ext cx="23623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10"/>
              <p:cNvSpPr txBox="1"/>
              <p:nvPr/>
            </p:nvSpPr>
            <p:spPr>
              <a:xfrm>
                <a:off x="4876920" y="6172200"/>
                <a:ext cx="2020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0"/>
            <a:ext cx="9144000" cy="73414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 u="sng">
                <a:solidFill>
                  <a:srgbClr val="000000"/>
                </a:solidFill>
                <a:uFillTx/>
                <a:latin typeface="Comic Sans MS"/>
              </a:rPr>
              <a:t>The BINOMIAL DISTRIBUTIO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Used for situations where we’re running a series of trials, each of which has TWO POSSIBLE OUTCOMES – success and failure (e.g. tossing a coin – if you call ‘heads’ each tim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We use the 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Binomial Distribution 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to work out the probability of getting a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particular number 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of </a:t>
            </a: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successful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 outcomes (e.g. 6 heads if we toss a coin 10 time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4 requirements for using the Binomial Distribution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Fixed number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, of identical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2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2 Possible Outcomes for each trial (</a:t>
            </a:r>
            <a:r>
              <a:rPr b="0" lang="en-NZ" sz="2500" spc="-1" strike="noStrike">
                <a:solidFill>
                  <a:srgbClr val="ff0000"/>
                </a:solidFill>
                <a:latin typeface="Comic Sans MS"/>
              </a:rPr>
              <a:t>success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NZ" sz="2500" spc="-1" strike="noStrike">
                <a:solidFill>
                  <a:srgbClr val="0000ff"/>
                </a:solidFill>
                <a:latin typeface="Comic Sans MS"/>
              </a:rPr>
              <a:t>failure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3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Trials are INDEPEND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4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Probability of success, </a:t>
            </a:r>
            <a:r>
              <a:rPr b="1" i="1" lang="el-GR" sz="25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, is the same for each tri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HINT:  Use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ternational 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ight  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lub 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0" y="-379800"/>
            <a:ext cx="91440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b)  What would count as one trial?  Calculate the probability of success in a single 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c)   How many times must the teacher do this for there to be at least a 50% chance of getting at least one free peri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0" y="2514240"/>
            <a:ext cx="9144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mber of trials that result in double sixe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   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do it this way, so take th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Answer: 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One trial: tossing the pair of dice o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= P(double sixes)  =  1/36   assuming the dice are both f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8"/>
              <p:cNvSpPr txBox="1"/>
              <p:nvPr/>
            </p:nvSpPr>
            <p:spPr>
              <a:xfrm>
                <a:off x="4829040" y="3733920"/>
                <a:ext cx="23623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Object 9"/>
              <p:cNvSpPr txBox="1"/>
              <p:nvPr/>
            </p:nvSpPr>
            <p:spPr>
              <a:xfrm>
                <a:off x="6048360" y="4952880"/>
                <a:ext cx="1230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0"/>
              <p:cNvSpPr txBox="1"/>
              <p:nvPr/>
            </p:nvSpPr>
            <p:spPr>
              <a:xfrm>
                <a:off x="5210280" y="4343400"/>
                <a:ext cx="2020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Object 11"/>
              <p:cNvSpPr txBox="1"/>
              <p:nvPr/>
            </p:nvSpPr>
            <p:spPr>
              <a:xfrm>
                <a:off x="5638680" y="5791320"/>
                <a:ext cx="18525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0" y="396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c)   How many times must the teacher do this for there to be at least a 50% chance of getting at least one free peri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mber of trials that result in double sixe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   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do it this way, so take th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13"/>
          <p:cNvSpPr/>
          <p:nvPr/>
        </p:nvSpPr>
        <p:spPr>
          <a:xfrm>
            <a:off x="0" y="624852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Answer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Must be a whole number. So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= 25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is the minimum number of trials before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drops below 0.5 – i.e.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xceeds 0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8"/>
              <p:cNvSpPr txBox="1"/>
              <p:nvPr/>
            </p:nvSpPr>
            <p:spPr>
              <a:xfrm>
                <a:off x="4800600" y="2209680"/>
                <a:ext cx="23623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Object 9"/>
              <p:cNvSpPr txBox="1"/>
              <p:nvPr/>
            </p:nvSpPr>
            <p:spPr>
              <a:xfrm>
                <a:off x="6019920" y="3429000"/>
                <a:ext cx="12301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10"/>
              <p:cNvSpPr txBox="1"/>
              <p:nvPr/>
            </p:nvSpPr>
            <p:spPr>
              <a:xfrm>
                <a:off x="5181480" y="2819520"/>
                <a:ext cx="202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Object 11"/>
              <p:cNvSpPr txBox="1"/>
              <p:nvPr/>
            </p:nvSpPr>
            <p:spPr>
              <a:xfrm>
                <a:off x="5610240" y="4267080"/>
                <a:ext cx="18525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12"/>
              <p:cNvSpPr txBox="1"/>
              <p:nvPr/>
            </p:nvSpPr>
            <p:spPr>
              <a:xfrm>
                <a:off x="6400800" y="4876920"/>
                <a:ext cx="12492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Object 13"/>
              <p:cNvSpPr txBox="1"/>
              <p:nvPr/>
            </p:nvSpPr>
            <p:spPr>
              <a:xfrm>
                <a:off x="6537240" y="5867280"/>
                <a:ext cx="117324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 txBox="1"/>
          <p:nvPr/>
        </p:nvSpPr>
        <p:spPr>
          <a:xfrm>
            <a:off x="0" y="-36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mber of trials that result in double sixe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   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do it this way, so take the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.e.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3"/>
          <p:cNvSpPr/>
          <p:nvPr/>
        </p:nvSpPr>
        <p:spPr>
          <a:xfrm>
            <a:off x="0" y="495288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Answer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Must be a whole number. So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= 25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is the minimum number of trials before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drops below 0.5 – i.e.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xceeds 0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0" y="53866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)   Another teacher flips a pair of coins every lesson, giving out chocolates to everyone whenever both come up tails.  He only has enough chocolates to give them out to the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 He wants to keep the prob. of it happ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3 times to below 0.1.  What’s the greatest number of trials he can afford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Object 8"/>
              <p:cNvSpPr txBox="1"/>
              <p:nvPr/>
            </p:nvSpPr>
            <p:spPr>
              <a:xfrm>
                <a:off x="4800600" y="990720"/>
                <a:ext cx="23623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Object 9"/>
              <p:cNvSpPr txBox="1"/>
              <p:nvPr/>
            </p:nvSpPr>
            <p:spPr>
              <a:xfrm>
                <a:off x="6019920" y="2209680"/>
                <a:ext cx="12301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10"/>
              <p:cNvSpPr txBox="1"/>
              <p:nvPr/>
            </p:nvSpPr>
            <p:spPr>
              <a:xfrm>
                <a:off x="5181480" y="1600200"/>
                <a:ext cx="202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11"/>
              <p:cNvSpPr txBox="1"/>
              <p:nvPr/>
            </p:nvSpPr>
            <p:spPr>
              <a:xfrm>
                <a:off x="5610240" y="3048120"/>
                <a:ext cx="18525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12"/>
              <p:cNvSpPr txBox="1"/>
              <p:nvPr/>
            </p:nvSpPr>
            <p:spPr>
              <a:xfrm>
                <a:off x="6400800" y="3657600"/>
                <a:ext cx="12492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Object 13"/>
              <p:cNvSpPr txBox="1"/>
              <p:nvPr/>
            </p:nvSpPr>
            <p:spPr>
              <a:xfrm>
                <a:off x="6537240" y="4648320"/>
                <a:ext cx="1173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0" y="0"/>
            <a:ext cx="914400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"/>
          <p:cNvSpPr/>
          <p:nvPr/>
        </p:nvSpPr>
        <p:spPr>
          <a:xfrm>
            <a:off x="0" y="3048120"/>
            <a:ext cx="9144000" cy="12301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4"/>
          <p:cNvSpPr/>
          <p:nvPr/>
        </p:nvSpPr>
        <p:spPr>
          <a:xfrm>
            <a:off x="0" y="28245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)   Another teacher flips a pair of coins every lesson, giving out chocolates to everyone whenever both come up tails.  He only has enough chocolates to give them out to the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 He wants to keep the prob. of it happ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3 times to below 0.1.  What’s the greatest number of trials he can afford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Content Placeholder 6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rgest possible number of trials,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uch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3)   remains  below  0.1 ,    where 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(Both tails) = 0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remains  above 0.9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)   &gt;   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blem:  We can’t solve this algebraically using the formula. </a:t>
            </a:r>
            <a:r>
              <a:rPr b="1" lang="en-NZ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 to you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ables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GC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use guess-and-check.  Starting with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, calculate P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Do the same for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, then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p when you get an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where P(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) drops below 0.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16"/>
          <p:cNvSpPr/>
          <p:nvPr/>
        </p:nvSpPr>
        <p:spPr>
          <a:xfrm>
            <a:off x="0" y="2209680"/>
            <a:ext cx="9144000" cy="642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Answer</a:t>
            </a: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Must be a whole number. So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= 25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is the minimum number of trials before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drops below 0.5 – i.e.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i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NZ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exceeds 0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11"/>
              <p:cNvSpPr txBox="1"/>
              <p:nvPr/>
            </p:nvSpPr>
            <p:spPr>
              <a:xfrm>
                <a:off x="5638680" y="228600"/>
                <a:ext cx="18525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2"/>
              <p:cNvSpPr txBox="1"/>
              <p:nvPr/>
            </p:nvSpPr>
            <p:spPr>
              <a:xfrm>
                <a:off x="6429240" y="838080"/>
                <a:ext cx="12495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13"/>
              <p:cNvSpPr txBox="1"/>
              <p:nvPr/>
            </p:nvSpPr>
            <p:spPr>
              <a:xfrm>
                <a:off x="6566040" y="1828800"/>
                <a:ext cx="1172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0" y="228600"/>
            <a:ext cx="9144000" cy="1230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0" y="813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)   Another teacher flips a pair of coins every lesson, giving out chocolates to everyone whenever both come up tails.  He only has enough chocolates to give them out to the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 He wants to keep the prob. of it happ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3 times to below 0.1.  What’s the greatest number of trials he can afford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Content Placeholder 6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rgest possible number of trials,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uch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3)   remains  below  0.1 ,    where 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(Both tails) = 0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remains  above 0.9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)   &gt;   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blem:  We can’t solve this algebraically using the formula. </a:t>
            </a:r>
            <a:r>
              <a:rPr b="1" lang="en-NZ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 to you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abl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GC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use guess-and-check.  Starting with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, calculate P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Do the same for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, then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p when you get an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where 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) drops below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3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"/>
          <p:cNvSpPr/>
          <p:nvPr/>
        </p:nvSpPr>
        <p:spPr>
          <a:xfrm>
            <a:off x="0" y="228600"/>
            <a:ext cx="9144000" cy="1230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4"/>
          <p:cNvSpPr/>
          <p:nvPr/>
        </p:nvSpPr>
        <p:spPr>
          <a:xfrm>
            <a:off x="0" y="813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)   Another teacher flips a pair of coins every lesson, giving out chocolates to everyone whenever both come up tails.  He only has enough chocolates to give them out to the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 He wants to keep the prob. of it happ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3 times to below 0.1.  What’s the greatest number of trials he can afford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Content Placeholder 6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rgest possible number of trials,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uch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3)   remains  below  0.1 ,    where 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(Both tails) = 0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remains  above 0.9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)   &gt;   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blem:  We can’t solve this algebraically using the formula. </a:t>
            </a:r>
            <a:r>
              <a:rPr b="1" lang="en-NZ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 to you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abl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GC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use guess-and-check.  Starting with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, calculate P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Do the same for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, then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p when you get an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where 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) drops below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3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96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5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8437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Try something a bit high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=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2944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Getting close now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8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88618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TOP.  Below 0.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0" y="228600"/>
            <a:ext cx="9144000" cy="1230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4"/>
          <p:cNvSpPr/>
          <p:nvPr/>
        </p:nvSpPr>
        <p:spPr>
          <a:xfrm>
            <a:off x="0" y="813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)   Another teacher flips a pair of coins every lesson, giving out chocolates to everyone whenever both come up tails.  He only has enough chocolates to give them out to the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 He wants to keep the prob. of it happ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3 times to below 0.1.  What’s the greatest number of trials he can afford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Content Placeholder 6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rgest possible number of trials,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uch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3)   remains  below  0.1 ,    where 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(Both tails) = 0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remains  above 0.9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)   &gt;   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blem:  We can’t solve this algebraically using the formula. </a:t>
            </a:r>
            <a:r>
              <a:rPr b="1" lang="en-NZ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 to you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abl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GC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use guess-and-check.  Starting with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, calculate P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Do the same for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, then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p when you get an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where 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) drops below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3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96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5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8437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Try something a bit high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=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2944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Getting close now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8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88618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TOP.  Below 0.9.  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e. P(X&gt;3) =   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0.886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0" y="228600"/>
            <a:ext cx="9144000" cy="1230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0" y="813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)   Another teacher flips a pair of coins every lesson, giving out chocolates to everyone whenever both come up tails.  He only has enough chocolates to give them out to the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  He wants to keep the prob. of it happ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an 3 times to below 0.1.  What’s the greatest number of trials he can afford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Content Placeholder 6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e the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rgest possible number of trials, 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uch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3)   remains  below  0.1 ,    where  </a:t>
            </a:r>
            <a:r>
              <a:rPr b="1" i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(Both tails) = 0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  remains  above 0.9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) +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)   &gt;   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blem:  We can’t solve this algebraically using the formula. </a:t>
            </a:r>
            <a:r>
              <a:rPr b="1" lang="en-NZ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lution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 to you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able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GC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use guess-and-check.  Starting with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3, calculate P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Do the same for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4, then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p when you get an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lue where 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&lt;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3) drops below 0.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3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96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5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8437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Try something a bit high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=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0" lang="en-N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.92944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Getting close now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8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P(</a:t>
            </a:r>
            <a:r>
              <a:rPr b="0" i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N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=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88618</a:t>
            </a:r>
            <a:r>
              <a:rPr b="0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TOP.  Below 0.9.   </a:t>
            </a: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e. P(X&gt;3) =   0.11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5"/>
          <p:cNvSpPr/>
          <p:nvPr/>
        </p:nvSpPr>
        <p:spPr>
          <a:xfrm>
            <a:off x="0" y="6019920"/>
            <a:ext cx="9144000" cy="6426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swer: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max. number of times the teacher can flip the pair of coins is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7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fter this, the probability of getting double tails more than 3 times exceeds 0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380880" y="228600"/>
            <a:ext cx="8458200" cy="2362320"/>
          </a:xfrm>
          <a:prstGeom prst="rect">
            <a:avLst/>
          </a:prstGeom>
          <a:solidFill>
            <a:srgbClr val="ffffcc"/>
          </a:solidFill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py down e.g. &amp; working then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ld Sigma (2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ed): Pg. 73 – Ex. 5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Or new Sigma:   Pg. 326 – Ex. 15.0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Complete for H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esson 12:  Approximations 1:  Binomial approximated by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earning outc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lve problems where the binomial distribution must be approximated by the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TARTER:  Re-cap of 4 requirements for use of the Binomi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tes and demo using comparison of the 2 distributions on Exc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o Sigma (old) – pg. 118 - Ex. 8.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Box 3"/>
          <p:cNvSpPr/>
          <p:nvPr/>
        </p:nvSpPr>
        <p:spPr>
          <a:xfrm>
            <a:off x="20520" y="3276720"/>
            <a:ext cx="9144000" cy="22885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Go into “play mode” to view slideshow as intend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Hold down SHIFT and click F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54" dur="1" fill="hold"/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Warm-up quiz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917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Q1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List the 4 requirements for a discrete random variable to be modelled by the Binomial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HINT: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ternational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ight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lub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0" y="1676520"/>
            <a:ext cx="9144000" cy="277128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The 4 requirements for a Binomial Distribution a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Fixed number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, of identical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2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2 Possible Outcomes for each trial (</a:t>
            </a:r>
            <a:r>
              <a:rPr b="0" lang="en-NZ" sz="2500" spc="-1" strike="noStrike">
                <a:solidFill>
                  <a:srgbClr val="ff0000"/>
                </a:solidFill>
                <a:latin typeface="Comic Sans MS"/>
              </a:rPr>
              <a:t>success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NZ" sz="2500" spc="-1" strike="noStrike">
                <a:solidFill>
                  <a:srgbClr val="0000ff"/>
                </a:solidFill>
                <a:latin typeface="Comic Sans MS"/>
              </a:rPr>
              <a:t>failure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3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Trials are INDEPEND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4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Probability of success, </a:t>
            </a:r>
            <a:r>
              <a:rPr b="1" i="1" lang="el-GR" sz="25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, is the same for each tri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6"/>
          <p:cNvSpPr/>
          <p:nvPr/>
        </p:nvSpPr>
        <p:spPr>
          <a:xfrm>
            <a:off x="42840" y="4667760"/>
            <a:ext cx="91011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Q2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f you toss a coi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00 tim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use your G.C. to calculate the probability of getting a tail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ess than 49 tim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y can’t you use your tables for thi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6"/>
          <p:cNvSpPr/>
          <p:nvPr/>
        </p:nvSpPr>
        <p:spPr>
          <a:xfrm>
            <a:off x="42840" y="5905800"/>
            <a:ext cx="91011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Q3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w try to calculate the probability of getting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ess than 490 tai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from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000 coin to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  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0" y="0"/>
            <a:ext cx="9144000" cy="7250040"/>
          </a:xfrm>
          <a:prstGeom prst="rect">
            <a:avLst/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e use the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Binomial Distribution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o work out the probability of getting a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particular number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f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uccessful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trials  (e.g. 6 heads if we toss a coin 10 tim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 4 requirements for using the Binomial Distribution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1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Fixed number, </a:t>
            </a:r>
            <a:r>
              <a:rPr b="1" i="1" lang="en-NZ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, of identical trial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2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2 Possible Outcomes for each trial (</a:t>
            </a:r>
            <a:r>
              <a:rPr b="0" lang="en-NZ" sz="2500" spc="-1" strike="noStrike">
                <a:solidFill>
                  <a:srgbClr val="ff0000"/>
                </a:solidFill>
                <a:latin typeface="Comic Sans MS"/>
              </a:rPr>
              <a:t>success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NZ" sz="2500" spc="-1" strike="noStrike">
                <a:solidFill>
                  <a:srgbClr val="0000ff"/>
                </a:solidFill>
                <a:latin typeface="Comic Sans MS"/>
              </a:rPr>
              <a:t>failure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3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Trials are INDEPEND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4.)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Probability of success, </a:t>
            </a:r>
            <a:r>
              <a:rPr b="1" i="1" lang="el-GR" sz="25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, is the same for each tri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HINT:  Use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In</a:t>
            </a: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ternational 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ight  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i="1" lang="en-NZ" sz="2500" spc="-1" strike="noStrike">
                <a:solidFill>
                  <a:srgbClr val="000000"/>
                </a:solidFill>
                <a:latin typeface="Comic Sans MS"/>
              </a:rPr>
              <a:t>lub  </a:t>
            </a:r>
            <a:r>
              <a:rPr b="1" i="1" lang="en-NZ" sz="25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333399"/>
                </a:solidFill>
                <a:latin typeface="Comic Sans MS"/>
              </a:rPr>
              <a:t>E.g. Experiment: Drawing cards from a pack of 52 </a:t>
            </a:r>
            <a:r>
              <a:rPr b="1" i="1" lang="en-NZ" sz="24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1" lang="en-NZ" sz="2400" spc="-1" strike="noStrike">
                <a:solidFill>
                  <a:srgbClr val="333399"/>
                </a:solidFill>
                <a:latin typeface="Comic Sans MS"/>
              </a:rPr>
              <a:t> repla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Comic Sans MS"/>
              </a:rPr>
              <a:t>4 trials by each class-member (</a:t>
            </a:r>
            <a:r>
              <a:rPr b="0" i="1" lang="en-NZ" sz="2400" spc="-1" strike="noStrike">
                <a:solidFill>
                  <a:srgbClr val="333399"/>
                </a:solidFill>
                <a:latin typeface="Comic Sans MS"/>
              </a:rPr>
              <a:t>with</a:t>
            </a:r>
            <a:r>
              <a:rPr b="0" lang="en-NZ" sz="2400" spc="-1" strike="noStrike">
                <a:solidFill>
                  <a:srgbClr val="333399"/>
                </a:solidFill>
                <a:latin typeface="Comic Sans MS"/>
              </a:rPr>
              <a:t> replace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Comic Sans MS"/>
              </a:rPr>
              <a:t>1 Trial:  Drawing a card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Comic Sans MS"/>
              </a:rPr>
              <a:t>2 Outcomes for each trial: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</a:rPr>
              <a:t>heart</a:t>
            </a:r>
            <a:r>
              <a:rPr b="0" lang="en-NZ" sz="2400" spc="-1" strike="noStrike">
                <a:solidFill>
                  <a:srgbClr val="333399"/>
                </a:solidFill>
                <a:latin typeface="Comic Sans MS"/>
              </a:rPr>
              <a:t> or </a:t>
            </a:r>
            <a:r>
              <a:rPr b="1" lang="en-NZ" sz="2400" spc="-1" strike="noStrike" u="sng">
                <a:solidFill>
                  <a:srgbClr val="0000ff"/>
                </a:solidFill>
                <a:uFillTx/>
                <a:latin typeface="Comic Sans MS"/>
              </a:rPr>
              <a:t>not a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Warm-up quiz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42840" y="918000"/>
            <a:ext cx="910116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Q2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f you toss a coi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00 tim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use your G.C. to calculate the probability of getting a tail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ess than 49 tim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Why can’t you use your tables for thi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42840" y="4421520"/>
            <a:ext cx="91011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Q3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Now try to calculate the probability of getting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less than 490 tai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from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000 coin to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.   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e can’t calculate this using the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inomial Distributio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ith either our tables or G.C. as neither stores probabilities for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values th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ut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Using the Normal Distribution to approximate the 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6"/>
          <p:cNvSpPr/>
          <p:nvPr/>
        </p:nvSpPr>
        <p:spPr>
          <a:xfrm>
            <a:off x="304920" y="1371600"/>
            <a:ext cx="8458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You flip a fair coin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000 times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.  What’s the probability of getting a tail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less than 490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Using the Normal Distribution to approximate the 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304920" y="1371600"/>
            <a:ext cx="8458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You flip a fair coin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000 times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.  What’s the probability of getting a tail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less than 490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e can’t calculate this using the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inomial Distributio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ith either our tables or G.C. as neither stores probabilities for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values th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ut… we can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approximate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it using the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Normal Distribution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Using the Normal Distribution to approximate the Binom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304920" y="1371600"/>
            <a:ext cx="8458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You flip a fair coin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000 times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.  What’s the probability of getting a tail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less than 490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e can’t calculate this using the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inomial Distributio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ith either our tables or G.C. as neither stores probabilities for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values th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ut… we can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approximate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it using the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Normal Distribution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0" y="3962520"/>
            <a:ext cx="914400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t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304920" y="0"/>
            <a:ext cx="8458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E.g. You flip a fair coin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1000 times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.  What’s the probability of getting a tail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less than 490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e can’t calculate this using the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inomial Distributio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ith either our tables or G.C. as neither stores probabilities for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values th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ut… we can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approximate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it using the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Normal Distribution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t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584208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e can’t calculate this using the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inomial Distributio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ith either our tables or G.C. as neither stores probabilities for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values this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But… we can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approximate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it using the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Normal Distribution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3"/>
          <p:cNvSpPr/>
          <p:nvPr/>
        </p:nvSpPr>
        <p:spPr>
          <a:xfrm>
            <a:off x="0" y="1752480"/>
            <a:ext cx="9144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t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0" y="49528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6"/>
          <p:cNvSpPr/>
          <p:nvPr/>
        </p:nvSpPr>
        <p:spPr>
          <a:xfrm>
            <a:off x="0" y="614988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7"/>
              <p:cNvSpPr txBox="1"/>
              <p:nvPr/>
            </p:nvSpPr>
            <p:spPr>
              <a:xfrm>
                <a:off x="6172200" y="6149880"/>
                <a:ext cx="216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3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t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5"/>
          <p:cNvSpPr/>
          <p:nvPr/>
        </p:nvSpPr>
        <p:spPr>
          <a:xfrm>
            <a:off x="36360" y="29494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6"/>
          <p:cNvSpPr/>
          <p:nvPr/>
        </p:nvSpPr>
        <p:spPr>
          <a:xfrm>
            <a:off x="0" y="395136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7"/>
              <p:cNvSpPr txBox="1"/>
              <p:nvPr/>
            </p:nvSpPr>
            <p:spPr>
              <a:xfrm>
                <a:off x="6248520" y="3951360"/>
                <a:ext cx="21603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4" name="Rectangle 6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3"/>
          <p:cNvSpPr/>
          <p:nvPr/>
        </p:nvSpPr>
        <p:spPr>
          <a:xfrm>
            <a:off x="0" y="0"/>
            <a:ext cx="91440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-9360" y="28735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0" y="393228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7"/>
              <p:cNvSpPr txBox="1"/>
              <p:nvPr/>
            </p:nvSpPr>
            <p:spPr>
              <a:xfrm>
                <a:off x="6248520" y="3922560"/>
                <a:ext cx="2160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9" name="Rectangle 6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=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3"/>
          <p:cNvSpPr/>
          <p:nvPr/>
        </p:nvSpPr>
        <p:spPr>
          <a:xfrm>
            <a:off x="0" y="0"/>
            <a:ext cx="91440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t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-9360" y="28954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0" y="393228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7"/>
              <p:cNvSpPr txBox="1"/>
              <p:nvPr/>
            </p:nvSpPr>
            <p:spPr>
              <a:xfrm>
                <a:off x="6248520" y="3922560"/>
                <a:ext cx="2160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04" name="Rectangle 6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=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9"/>
              <p:cNvSpPr txBox="1"/>
              <p:nvPr/>
            </p:nvSpPr>
            <p:spPr>
              <a:xfrm>
                <a:off x="5181480" y="5715000"/>
                <a:ext cx="1524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use the Normal Distribution to approximate Binomial probabilities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very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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is NOT extreme (not too close to 0 or 1) – so distribution is  symmetrical, not sk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-17640" y="2913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0" y="395136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7"/>
              <p:cNvSpPr txBox="1"/>
              <p:nvPr/>
            </p:nvSpPr>
            <p:spPr>
              <a:xfrm>
                <a:off x="6248520" y="3941640"/>
                <a:ext cx="2160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0" name="Rectangle 6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= 500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9"/>
              <p:cNvSpPr txBox="1"/>
              <p:nvPr/>
            </p:nvSpPr>
            <p:spPr>
              <a:xfrm>
                <a:off x="5181480" y="5715000"/>
                <a:ext cx="1524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4"/>
              <p:cNvSpPr txBox="1"/>
              <p:nvPr/>
            </p:nvSpPr>
            <p:spPr>
              <a:xfrm>
                <a:off x="5181480" y="6372360"/>
                <a:ext cx="2210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CHECK: The conditions that ensure this ar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oth 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87624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** NOTE: The Normal approximation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quires a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          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0" y="182880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Object 7"/>
              <p:cNvSpPr txBox="1"/>
              <p:nvPr/>
            </p:nvSpPr>
            <p:spPr>
              <a:xfrm>
                <a:off x="6172200" y="1787400"/>
                <a:ext cx="216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17" name="Rectangle 6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500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15.8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So the expected number of tails in 1000 throws is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Tahoma"/>
              </a:rPr>
              <a:t>500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 with a standard deviation of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Tahoma"/>
              </a:rPr>
              <a:t>15.811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9"/>
              <p:cNvSpPr txBox="1"/>
              <p:nvPr/>
            </p:nvSpPr>
            <p:spPr>
              <a:xfrm>
                <a:off x="5105520" y="3809880"/>
                <a:ext cx="15238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ct 4"/>
              <p:cNvSpPr txBox="1"/>
              <p:nvPr/>
            </p:nvSpPr>
            <p:spPr>
              <a:xfrm>
                <a:off x="5105520" y="4467240"/>
                <a:ext cx="22096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6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Object 7"/>
              <p:cNvSpPr txBox="1"/>
              <p:nvPr/>
            </p:nvSpPr>
            <p:spPr>
              <a:xfrm>
                <a:off x="6172200" y="228600"/>
                <a:ext cx="216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22" name="Rectangle 6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500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15.8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So the expected number of tails in 1000 throws is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Tahoma"/>
              </a:rPr>
              <a:t>500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with a standard deviation of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Tahoma"/>
              </a:rPr>
              <a:t>15.8114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ff"/>
                </a:solidFill>
                <a:latin typeface="Comic Sans MS"/>
                <a:ea typeface="Tahoma"/>
              </a:rPr>
              <a:t>P(X </a:t>
            </a:r>
            <a:r>
              <a:rPr b="1" lang="en-NZ" sz="21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NZ" sz="2100" spc="-1" strike="noStrike">
                <a:solidFill>
                  <a:srgbClr val="0000ff"/>
                </a:solidFill>
                <a:latin typeface="Comic Sans MS"/>
                <a:ea typeface="Tahoma"/>
              </a:rPr>
              <a:t> 490)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≈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P(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?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)      (using continuity correct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9"/>
              <p:cNvSpPr txBox="1"/>
              <p:nvPr/>
            </p:nvSpPr>
            <p:spPr>
              <a:xfrm>
                <a:off x="5105520" y="2362320"/>
                <a:ext cx="1523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4"/>
              <p:cNvSpPr txBox="1"/>
              <p:nvPr/>
            </p:nvSpPr>
            <p:spPr>
              <a:xfrm>
                <a:off x="5105520" y="3019320"/>
                <a:ext cx="22096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6"/>
          <p:cNvSpPr/>
          <p:nvPr/>
        </p:nvSpPr>
        <p:spPr>
          <a:xfrm>
            <a:off x="0" y="228600"/>
            <a:ext cx="8915400" cy="581400"/>
          </a:xfrm>
          <a:prstGeom prst="rect">
            <a:avLst/>
          </a:prstGeom>
          <a:solidFill>
            <a:srgbClr val="ffff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Normal Dist</a:t>
            </a:r>
            <a:r>
              <a:rPr b="0" lang="en-NZ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arameters: 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  <a:ea typeface="Tahoma"/>
              </a:rPr>
              <a:t>n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6172200" y="228600"/>
                <a:ext cx="21607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27" name="Rectangle 6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500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15.8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So the expected number of tails in 1000 throws is 500 with a standard deviation of 15.81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ff"/>
                </a:solidFill>
                <a:latin typeface="Comic Sans MS"/>
                <a:ea typeface="Tahoma"/>
              </a:rPr>
              <a:t>P(X </a:t>
            </a:r>
            <a:r>
              <a:rPr b="1" lang="en-NZ" sz="21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NZ" sz="2100" spc="-1" strike="noStrike">
                <a:solidFill>
                  <a:srgbClr val="0000ff"/>
                </a:solidFill>
                <a:latin typeface="Comic Sans MS"/>
                <a:ea typeface="Tahoma"/>
              </a:rPr>
              <a:t> 490)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≈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P(X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ahoma"/>
              </a:rPr>
              <a:t>&lt;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489.5)    </a:t>
            </a:r>
            <a:r>
              <a:rPr b="0" i="1" lang="en-NZ" sz="2400" spc="-1" strike="noStrike">
                <a:solidFill>
                  <a:srgbClr val="ff0000"/>
                </a:solidFill>
                <a:latin typeface="Tahoma"/>
                <a:ea typeface="Tahoma"/>
              </a:rPr>
              <a:t>(using continuity cor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Object 9"/>
              <p:cNvSpPr txBox="1"/>
              <p:nvPr/>
            </p:nvSpPr>
            <p:spPr>
              <a:xfrm>
                <a:off x="5105520" y="2362320"/>
                <a:ext cx="15238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4"/>
              <p:cNvSpPr txBox="1"/>
              <p:nvPr/>
            </p:nvSpPr>
            <p:spPr>
              <a:xfrm>
                <a:off x="5105520" y="3019320"/>
                <a:ext cx="22096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to calculate the probability of getting a tail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less than 490 tim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ut o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1000 coin t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Use a normal approximation with parameters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n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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 1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×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500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	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ff"/>
                </a:solidFill>
                <a:latin typeface="Tahoma"/>
                <a:ea typeface="Tahoma"/>
              </a:rPr>
              <a:t>15.81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So the expected number of tails in 1000 throws is 500 with a standard deviation of 15.81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ff"/>
                </a:solidFill>
                <a:latin typeface="Comic Sans MS"/>
                <a:ea typeface="Tahoma"/>
              </a:rPr>
              <a:t>P(X </a:t>
            </a:r>
            <a:r>
              <a:rPr b="1" lang="en-NZ" sz="2100" spc="-1" strike="noStrike">
                <a:solidFill>
                  <a:srgbClr val="0000ff"/>
                </a:solidFill>
                <a:latin typeface="Tahoma"/>
                <a:ea typeface="Tahoma"/>
              </a:rPr>
              <a:t>&lt;</a:t>
            </a:r>
            <a:r>
              <a:rPr b="0" lang="en-NZ" sz="2100" spc="-1" strike="noStrike">
                <a:solidFill>
                  <a:srgbClr val="0000ff"/>
                </a:solidFill>
                <a:latin typeface="Comic Sans MS"/>
                <a:ea typeface="Tahoma"/>
              </a:rPr>
              <a:t> 490)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≈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NZ" sz="21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P(X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ahoma"/>
              </a:rPr>
              <a:t>&lt;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 489.5)    </a:t>
            </a:r>
            <a:r>
              <a:rPr b="0" i="1" lang="en-NZ" sz="2400" spc="-1" strike="noStrike">
                <a:solidFill>
                  <a:srgbClr val="ff0000"/>
                </a:solidFill>
                <a:latin typeface="Tahoma"/>
                <a:ea typeface="Tahoma"/>
              </a:rPr>
              <a:t>(using continuity cor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≈ 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P(Z  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ahoma"/>
              </a:rPr>
              <a:t>&lt;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  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Comic Sans MS"/>
                <a:ea typeface="Tahoma"/>
              </a:rPr>
              <a:t>489.5 – 500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                           </a:t>
            </a:r>
            <a:r>
              <a:rPr b="0" lang="en-NZ" sz="2100" spc="-1" strike="noStrike">
                <a:solidFill>
                  <a:srgbClr val="ff0000"/>
                </a:solidFill>
                <a:latin typeface="Comic Sans MS"/>
                <a:ea typeface="Tahoma"/>
              </a:rPr>
              <a:t>15.8114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9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≈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0.2533 (4sf) 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Tahoma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Object 9"/>
              <p:cNvSpPr txBox="1"/>
              <p:nvPr/>
            </p:nvSpPr>
            <p:spPr>
              <a:xfrm>
                <a:off x="5105520" y="1219320"/>
                <a:ext cx="15238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π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Object 4"/>
              <p:cNvSpPr txBox="1"/>
              <p:nvPr/>
            </p:nvSpPr>
            <p:spPr>
              <a:xfrm>
                <a:off x="5105520" y="1876320"/>
                <a:ext cx="2514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33" name="Rectangle 6"/>
          <p:cNvSpPr/>
          <p:nvPr/>
        </p:nvSpPr>
        <p:spPr>
          <a:xfrm>
            <a:off x="380880" y="228600"/>
            <a:ext cx="8458200" cy="1371600"/>
          </a:xfrm>
          <a:prstGeom prst="rect">
            <a:avLst/>
          </a:prstGeom>
          <a:solidFill>
            <a:srgbClr val="ffffcc"/>
          </a:solidFill>
          <a:ln w="92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old Sigma (2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ed): Pg. 118 – Ex. 8.1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0000"/>
                </a:solidFill>
                <a:latin typeface="Arial"/>
              </a:rPr>
              <a:t>Complete for H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"/>
          <p:cNvSpPr/>
          <p:nvPr/>
        </p:nvSpPr>
        <p:spPr>
          <a:xfrm>
            <a:off x="6197760" y="5638680"/>
            <a:ext cx="2971800" cy="105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So 490 tails would be just above the </a:t>
            </a:r>
            <a:r>
              <a:rPr b="1" lang="en-NZ" sz="2100" spc="-1" strike="noStrike">
                <a:solidFill>
                  <a:srgbClr val="000000"/>
                </a:solidFill>
                <a:latin typeface="Comic Sans MS"/>
              </a:rPr>
              <a:t>lower quarti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emy Brocklehurst</dc:creator>
  <dc:description/>
  <dc:language>en-US</dc:language>
  <cp:lastModifiedBy>Jeremy Brocklehurst</cp:lastModifiedBy>
  <dcterms:modified xsi:type="dcterms:W3CDTF">2011-07-10T10:53:05Z</dcterms:modified>
  <cp:revision>1582</cp:revision>
  <dc:subject>Year 13 SAM</dc:subject>
  <dc:title>Probability Distribu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